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CB8BBC-59B1-4755-8A6F-AC046AE2213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D32360-9703-4B09-AEB4-F76308A5439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450B01-98DD-4BB4-8C29-55409891F61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4E3DE1-D530-438C-A531-7651A3A2DF8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569223-1F7A-4718-92EE-62004A2F037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2EC707-2490-4B46-89BC-739E5D94984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81F121-01E5-4333-86FE-E7627CC87C1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DD3036-0ADF-43AA-80C0-9AED8BFF5A1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E3C375-656F-4BA9-84D1-FD7A56A738A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A9B237-D3B2-4D90-86EF-48A63B2FD61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25C802-C9B1-443F-BB47-569356F64BC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4CF2F2-DCB8-40AC-90F0-81A0CC1D6F9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611849-8334-4914-901E-D42A021F51A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1EB84E-C7E7-464C-BEAA-9410C197F55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58A7AF-97F6-4AF7-BA02-7FED4EA400B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C98BF3-2228-40E1-BDE6-4246611DFA0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82747E-A997-43AC-B154-5BB6826E39A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F4B71B-C8CC-4E81-AD72-68B47B37E8F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99DB-281C-4C8F-A873-227BC0F8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643-DFA6-4FF6-AFA2-405A7849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316-AFC4-42E9-ACE0-4A47AC0D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581-5697-415F-95C2-9E41AB0A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CFAC-615F-4857-ADFA-4040E333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0B59-B263-489A-B776-D989A118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CDB4-5880-4143-9D1C-4A74B509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A388-D084-48B1-817B-E66F0B60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D360-82B6-4114-893F-D395D40C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9F40-BF6C-4E26-ADC9-4D73B2AF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4C68-8262-4C14-879F-40483541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FA0-EFCF-4F83-B755-339A1611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DA9A-A053-4AA6-B6A1-F87A66EB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F065-F58B-4076-88FD-4CF7B4EC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581F-7180-464A-93D8-4DF5B06E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CB17-A22D-4D84-9402-4128B9D6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E668-7C7E-49CA-AB4F-BAB69657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DBC-E9B5-4777-B285-8DDBF92F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832-1671-4755-8BBD-8066734A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BB2-B836-42A1-A641-AED0FC4B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AFA-2B54-4BA6-99A6-D52CECFC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A42-D689-4E54-AE81-5AF431F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00EF-60D8-478C-8064-C4FEA357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9C3-1923-4A24-BDEA-253621DD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EE1F-5422-42F2-A054-CDDCA8362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A33D-F308-4598-9ADD-0F49F55CBF84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for the Inverted I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: speeding-up sear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151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154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6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159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1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162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4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8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169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2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173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5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176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8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179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1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182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4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185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7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188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0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2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193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5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9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200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2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3643200" y="585792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ro:  O(p) search time = path sca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: edge + node labels + tree struc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o exist many variants and their implementa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lves the prefix proble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lower: O(p) time, many cache mi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10 to 60 (or, even more) bytes per n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471320" y="5992920"/>
            <a:ext cx="65998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s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c syzigial syzygygy     szaibelyite sz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o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50"/>
          <p:cNvSpPr/>
          <p:nvPr/>
        </p:nvSpPr>
        <p:spPr>
          <a:xfrm>
            <a:off x="2124000" y="4363920"/>
            <a:ext cx="20890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2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223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5" name="Text Box 59"/>
          <p:cNvSpPr/>
          <p:nvPr/>
        </p:nvSpPr>
        <p:spPr>
          <a:xfrm>
            <a:off x="4391280" y="3357720"/>
            <a:ext cx="4598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63"/>
          <p:cNvSpPr/>
          <p:nvPr/>
        </p:nvSpPr>
        <p:spPr>
          <a:xfrm>
            <a:off x="5292720" y="6215040"/>
            <a:ext cx="934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59"/>
          <p:cNvSpPr/>
          <p:nvPr/>
        </p:nvSpPr>
        <p:spPr>
          <a:xfrm>
            <a:off x="4535640" y="1857240"/>
            <a:ext cx="4310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≈ typically 1 I/O + in-mem co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pace   ≈ trie built over a subset of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1482840" y="5857920"/>
            <a:ext cx="35938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5245200" y="5857920"/>
            <a:ext cx="284472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62"/>
          <p:cNvSpPr/>
          <p:nvPr/>
        </p:nvSpPr>
        <p:spPr>
          <a:xfrm>
            <a:off x="1547640" y="6215040"/>
            <a:ext cx="57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ront-coding: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queezing dic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91200" y="3521160"/>
            <a:ext cx="31464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Natural/Washcloth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5" name="Group 5"/>
          <p:cNvGrpSpPr/>
          <p:nvPr/>
        </p:nvGrpSpPr>
        <p:grpSpPr>
          <a:xfrm>
            <a:off x="538200" y="3449520"/>
            <a:ext cx="3744720" cy="2950920"/>
            <a:chOff x="538200" y="3449520"/>
            <a:chExt cx="3744720" cy="2950920"/>
          </a:xfrm>
        </p:grpSpPr>
        <p:sp>
          <p:nvSpPr>
            <p:cNvPr id="236" name="Rectangle 6"/>
            <p:cNvSpPr/>
            <p:nvPr/>
          </p:nvSpPr>
          <p:spPr>
            <a:xfrm>
              <a:off x="538200" y="3449520"/>
              <a:ext cx="3744720" cy="2087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538200" y="5608440"/>
              <a:ext cx="3744720" cy="792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8" name="Text Box 8"/>
          <p:cNvSpPr/>
          <p:nvPr/>
        </p:nvSpPr>
        <p:spPr>
          <a:xfrm>
            <a:off x="5295600" y="3160800"/>
            <a:ext cx="22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99"/>
                </a:solidFill>
                <a:latin typeface="Lucida Sans"/>
              </a:rPr>
              <a:t>0    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42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9" name="Group 13"/>
          <p:cNvGrpSpPr/>
          <p:nvPr/>
        </p:nvGrpSpPr>
        <p:grpSpPr>
          <a:xfrm>
            <a:off x="4376160" y="3159000"/>
            <a:ext cx="4299480" cy="2555640"/>
            <a:chOff x="4376160" y="3159000"/>
            <a:chExt cx="4299480" cy="2555640"/>
          </a:xfrm>
        </p:grpSpPr>
        <p:grpSp>
          <p:nvGrpSpPr>
            <p:cNvPr id="240" name="Group 14"/>
            <p:cNvGrpSpPr/>
            <p:nvPr/>
          </p:nvGrpSpPr>
          <p:grpSpPr>
            <a:xfrm>
              <a:off x="4376160" y="3159000"/>
              <a:ext cx="4299480" cy="2555640"/>
              <a:chOff x="4376160" y="3159000"/>
              <a:chExt cx="4299480" cy="2555640"/>
            </a:xfrm>
          </p:grpSpPr>
          <p:sp>
            <p:nvSpPr>
              <p:cNvPr id="241" name="Rectangle 15"/>
              <p:cNvSpPr/>
              <p:nvPr/>
            </p:nvSpPr>
            <p:spPr>
              <a:xfrm>
                <a:off x="5218200" y="3160440"/>
                <a:ext cx="3440160" cy="2017800"/>
              </a:xfrm>
              <a:prstGeom prst="rect">
                <a:avLst/>
              </a:pr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AutoShape 16"/>
              <p:cNvSpPr/>
              <p:nvPr/>
            </p:nvSpPr>
            <p:spPr>
              <a:xfrm>
                <a:off x="4425840" y="3466800"/>
                <a:ext cx="720720" cy="977760"/>
              </a:xfrm>
              <a:prstGeom prst="rightArrow">
                <a:avLst>
                  <a:gd name="adj1" fmla="val 41065"/>
                  <a:gd name="adj2" fmla="val 2159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376160" y="3159000"/>
                <a:ext cx="83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33</a:t>
                </a:r>
                <a:r>
                  <a:rPr b="0" lang="it-IT" sz="1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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45%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Rectangle 18"/>
              <p:cNvSpPr/>
              <p:nvPr/>
            </p:nvSpPr>
            <p:spPr>
              <a:xfrm>
                <a:off x="5218200" y="5211360"/>
                <a:ext cx="3457440" cy="5032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5" name="Text Box 19"/>
            <p:cNvSpPr/>
            <p:nvPr/>
          </p:nvSpPr>
          <p:spPr>
            <a:xfrm>
              <a:off x="5319360" y="5249520"/>
              <a:ext cx="3137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99"/>
                  </a:solidFill>
                  <a:latin typeface="Lucida Sans"/>
                </a:rPr>
                <a:t>0    http://checkmate.com/All/Natural/Washcloth.html</a:t>
              </a:r>
              <a:r>
                <a:rPr b="0" lang="it-IT" sz="900" spc="-1" strike="noStrike">
                  <a:solidFill>
                    <a:srgbClr val="000000"/>
                  </a:solidFill>
                  <a:latin typeface="Lucida Sans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46" name="Text Box 20"/>
          <p:cNvSpPr/>
          <p:nvPr/>
        </p:nvSpPr>
        <p:spPr>
          <a:xfrm>
            <a:off x="1042920" y="2252520"/>
            <a:ext cx="64087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ile  syzygetic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zygial  syzyg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7" name="Group 27"/>
          <p:cNvGrpSpPr/>
          <p:nvPr/>
        </p:nvGrpSpPr>
        <p:grpSpPr>
          <a:xfrm>
            <a:off x="2413080" y="2265480"/>
            <a:ext cx="4174560" cy="968760"/>
            <a:chOff x="2413080" y="2265480"/>
            <a:chExt cx="4174560" cy="968760"/>
          </a:xfrm>
        </p:grpSpPr>
        <p:sp>
          <p:nvSpPr>
            <p:cNvPr id="248" name="Rectangle 21"/>
            <p:cNvSpPr/>
            <p:nvPr/>
          </p:nvSpPr>
          <p:spPr>
            <a:xfrm>
              <a:off x="2413080" y="2265480"/>
              <a:ext cx="35856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Rectangle 22"/>
            <p:cNvSpPr/>
            <p:nvPr/>
          </p:nvSpPr>
          <p:spPr>
            <a:xfrm>
              <a:off x="4068720" y="2265480"/>
              <a:ext cx="100620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5653080" y="2265480"/>
              <a:ext cx="93456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1" name="Text Box 24"/>
            <p:cNvSpPr/>
            <p:nvPr/>
          </p:nvSpPr>
          <p:spPr>
            <a:xfrm>
              <a:off x="2421720" y="28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2" name="Text Box 25"/>
            <p:cNvSpPr/>
            <p:nvPr/>
          </p:nvSpPr>
          <p:spPr>
            <a:xfrm>
              <a:off x="436464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Text Box 26"/>
            <p:cNvSpPr/>
            <p:nvPr/>
          </p:nvSpPr>
          <p:spPr>
            <a:xfrm>
              <a:off x="5813640" y="27687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4" name="AutoShape 29"/>
          <p:cNvSpPr/>
          <p:nvPr/>
        </p:nvSpPr>
        <p:spPr>
          <a:xfrm>
            <a:off x="5327640" y="6094440"/>
            <a:ext cx="37450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Gzip may be much bett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1452600" y="5992920"/>
            <a:ext cx="7121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 c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al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50"/>
          <p:cNvSpPr/>
          <p:nvPr/>
        </p:nvSpPr>
        <p:spPr>
          <a:xfrm>
            <a:off x="2124000" y="4363920"/>
            <a:ext cx="18734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1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262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4" name="Text Box 59"/>
          <p:cNvSpPr/>
          <p:nvPr/>
        </p:nvSpPr>
        <p:spPr>
          <a:xfrm>
            <a:off x="4397400" y="3357720"/>
            <a:ext cx="4651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Line 63"/>
          <p:cNvSpPr/>
          <p:nvPr/>
        </p:nvSpPr>
        <p:spPr>
          <a:xfrm flipV="1">
            <a:off x="5076720" y="6165360"/>
            <a:ext cx="1366920" cy="49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Text Box 59"/>
          <p:cNvSpPr/>
          <p:nvPr/>
        </p:nvSpPr>
        <p:spPr>
          <a:xfrm>
            <a:off x="4614840" y="1857240"/>
            <a:ext cx="434988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 + in-mem co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Space   ≈ Trie built over a subset of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it-IT" sz="1600" spc="-1" strike="noStrike">
                <a:solidFill>
                  <a:srgbClr val="20ac6f"/>
                </a:solidFill>
                <a:latin typeface="Tahoma"/>
                <a:ea typeface="Tahoma"/>
              </a:rPr>
              <a:t>and front-coding over bucket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1857240" y="5857920"/>
            <a:ext cx="30196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5000760" y="5857920"/>
            <a:ext cx="321444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1911240" y="6215040"/>
            <a:ext cx="7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lling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ll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principal u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rrecting document(s) being index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rrecting queries to retrieve “right” answ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ain flavo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olated w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eck each word on its own for misspell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what about: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for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text-sensitive is more effecti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ook at surrounding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I flew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"/>
              </a:rPr>
              <a:t>form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Heathrow to Narit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undamental premise – there is a lexicon from which the correct spellings com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basic choices for th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standard lexicon such 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ster’s English Dictio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n “industry-specific” lexicon – hand-maintain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lexicon of the indexed corp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all words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l names, acronyms etc. (including the mis-spelling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ing algorithms to derive the possible correc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lexicon and a character sequence Q, return the words in the lexicon closest to Q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’s “closest”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’ll study several measur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dit distance (Levenshtein distanc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ighted edit distan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 overla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ute-force check of 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query Q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numerate all character sequences within a preset (weighted) edit distance (e.g., 2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sect this set with list of “correct” 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how terms you found to user as sugges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ttangolo arrotondato 1"/>
          <p:cNvSpPr/>
          <p:nvPr/>
        </p:nvSpPr>
        <p:spPr>
          <a:xfrm>
            <a:off x="3203640" y="5589720"/>
            <a:ext cx="558324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How the time complexity grow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with #errors allowed and string length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is le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Exact 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Prefix 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olerant” retrieval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dit-distance quer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ild-card quer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pelling corre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7648920" y="-3312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wo string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minimum number of </a:t>
            </a:r>
            <a:r>
              <a:rPr b="1" i="1" lang="en-US" sz="2600" spc="-1" strike="noStrike">
                <a:solidFill>
                  <a:srgbClr val="ff3300"/>
                </a:solidFill>
                <a:latin typeface="Lucida Sans"/>
              </a:rPr>
              <a:t>operation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convert one to the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perations are typically character-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, Delete, Replace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(possibly, Transposi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the edit distance fro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f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c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2 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Just 1 with transpos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3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Generally found by dynamic programm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80520" y="1700280"/>
            <a:ext cx="82947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edit distance to trans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i]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j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ersu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equence of ops: ins, del, subst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the edit distance as an alignment problem wher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ser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 to 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a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ele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 to 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i]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j] then last op i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thus it is not coun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therwise the last op is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ubs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i]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j]) or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j]) or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i]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Prog for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413000" y="4508640"/>
            <a:ext cx="6688080" cy="23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(i,0)=i, E(0,j)=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if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i]= 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1 + min{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}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i]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43000" y="1828800"/>
          <a:ext cx="6095880" cy="41450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7744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5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24000" y="1628640"/>
          <a:ext cx="1966680" cy="1311480"/>
        </p:xfrm>
        <a:graphic>
          <a:graphicData uri="http://schemas.openxmlformats.org/drawingml/2006/table">
            <a:tbl>
              <a:tblPr/>
              <a:tblGrid>
                <a:gridCol w="984240"/>
                <a:gridCol w="98244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6" name="Connettore 2 3"/>
          <p:cNvCxnSpPr/>
          <p:nvPr/>
        </p:nvCxnSpPr>
        <p:spPr>
          <a:xfrm>
            <a:off x="684000" y="1916280"/>
            <a:ext cx="1151640" cy="72144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97" name="CasellaDiTesto 4"/>
          <p:cNvSpPr/>
          <p:nvPr/>
        </p:nvSpPr>
        <p:spPr>
          <a:xfrm>
            <a:off x="816480" y="17161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98" name="Connettore 2 7"/>
          <p:cNvCxnSpPr/>
          <p:nvPr/>
        </p:nvCxnSpPr>
        <p:spPr>
          <a:xfrm>
            <a:off x="1834920" y="1916280"/>
            <a:ext cx="1080" cy="72144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99" name="CasellaDiTesto 11"/>
          <p:cNvSpPr/>
          <p:nvPr/>
        </p:nvSpPr>
        <p:spPr>
          <a:xfrm>
            <a:off x="1810440" y="1828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CasellaDiTesto 12"/>
          <p:cNvSpPr/>
          <p:nvPr/>
        </p:nvSpPr>
        <p:spPr>
          <a:xfrm>
            <a:off x="780840" y="2349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01" name="Connettore 2 13"/>
          <p:cNvCxnSpPr/>
          <p:nvPr/>
        </p:nvCxnSpPr>
        <p:spPr>
          <a:xfrm>
            <a:off x="798480" y="2711160"/>
            <a:ext cx="1046880" cy="1476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Weighted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 above, but the weight of an operation depends on the character(s) invol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ant to capture keyboard errors, e.g.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be mis-typed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refore, replac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</a:t>
            </a:r>
            <a:r>
              <a:rPr b="1" i="1" lang="en-US" sz="2400" spc="-1" strike="noStrike">
                <a:solidFill>
                  <a:srgbClr val="ff3300"/>
                </a:solidFill>
                <a:latin typeface="Lucida Sans"/>
              </a:rPr>
              <a:t>smaller co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weighted matrix as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dify DP to handle weigh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ne-error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problem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1-error = insertion, deletion or substitution 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one single charact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Farragina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rragina (substitutio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Feragina 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rragina (insertio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Ferrragina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rragina (deletio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 string of length L over A chars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#variants = L (A-1) + (L+1)A + L = A * (2L+1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You could have many candid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You can still deploy keyboard layout or other statistical information (web, wikipedia,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Rettangolo arrotondato 8"/>
          <p:cNvSpPr/>
          <p:nvPr/>
        </p:nvSpPr>
        <p:spPr>
          <a:xfrm>
            <a:off x="4788000" y="5445000"/>
            <a:ext cx="4248000" cy="1297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Do we need to make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the enumeration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possible approa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Create two dictionar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1 = { strings 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2 = { strings of D1 with </a:t>
            </a:r>
            <a:r>
              <a:rPr b="0" i="1" lang="it-IT" sz="2400" spc="-1" strike="noStrike">
                <a:solidFill>
                  <a:srgbClr val="ff0000"/>
                </a:solidFill>
                <a:latin typeface="Lucida Sans"/>
              </a:rPr>
              <a:t>one deletion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1 = {cat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,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t,</a:t>
            </a:r>
            <a:r>
              <a:rPr b="0" lang="it-IT" sz="26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dag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2 = {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ag [</a:t>
            </a:r>
            <a:r>
              <a:rPr b="0" lang="it-IT" sz="26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 dag], da [dag], dg [dag]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ast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, cas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, cat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, cst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 [cst], ct [cst], st [cst]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t [cat], ca [cat], ct [cat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Rettangolo arrotondato 8"/>
          <p:cNvSpPr/>
          <p:nvPr/>
        </p:nvSpPr>
        <p:spPr>
          <a:xfrm>
            <a:off x="5357880" y="5445000"/>
            <a:ext cx="3678120" cy="1297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Assume a fast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string-check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in a dictiona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 exampl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32920" y="1557000"/>
            <a:ext cx="867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1 = {cat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,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t,</a:t>
            </a:r>
            <a:r>
              <a:rPr b="0" lang="it-IT" sz="26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dag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2 = { 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ag [dag]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ast [cast],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t [cat], ca [cat]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 [cast], cat [cast],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 [cst]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st [cast],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ct [cat;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t]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da [dag], dg [dag],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st [cst]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518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Query(«cat»)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fect match: Search(P) in D1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 [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less: Search(P) in D2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 [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cat [cast]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more: Search(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in D1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 [search for {at, ct, ca} in D1 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 match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ubstitution: Search(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in D2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 [e.g. {at,ct, ca} in D2 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t [cat], ct [cat], </a:t>
            </a:r>
            <a:r>
              <a:rPr b="0" lang="it-IT" sz="2400" spc="-1" strike="noStrike">
                <a:solidFill>
                  <a:srgbClr val="0070c0"/>
                </a:solidFill>
                <a:latin typeface="Lucida Sans"/>
              </a:rPr>
              <a:t>ct [cst],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 [cat]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possible approa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91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Query(P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fect match: Search for P in D1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less: Search for P in D2 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more: Search for 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in D1 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ubstitution: Search for 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in D2 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We need 2p + 2 hash computations for 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Pro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PU efficient, no cache misses for computing P’s hashes; but O(p) cache misses to search in D1 and D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Con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arge space because of the many strings in D2 which must be stored to search in the hash table of D2, unless we avoid collision (perfect hash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FALSE MATCHES: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tw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atches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st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as SUB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verlap vs Edi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stanc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dictionary data structure stores the term vocabulary, but…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 in what data structure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Lucida Sans"/>
              </a:rPr>
              <a:t>K-gram 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 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(useful for &gt;1 error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7524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 index contains for ev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ram (he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=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) all terms including that k-gra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292400" y="4091040"/>
            <a:ext cx="560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282680" y="4624560"/>
            <a:ext cx="483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2057400" y="42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2057400" y="47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395520" y="409104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99960" y="3471840"/>
            <a:ext cx="551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$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2057400" y="3633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3355200" y="3471840"/>
            <a:ext cx="82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381120" y="469116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002200" y="4091040"/>
            <a:ext cx="1255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rt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5" name="AutoShape 13"/>
          <p:cNvCxnSpPr>
            <a:stCxn id="329" idx="3"/>
            <a:endCxn id="334" idx="1"/>
          </p:cNvCxnSpPr>
          <p:nvPr/>
        </p:nvCxnSpPr>
        <p:spPr>
          <a:xfrm>
            <a:off x="4509720" y="4323960"/>
            <a:ext cx="367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Text Box 14"/>
          <p:cNvSpPr/>
          <p:nvPr/>
        </p:nvSpPr>
        <p:spPr>
          <a:xfrm>
            <a:off x="4821840" y="3471840"/>
            <a:ext cx="1159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dd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7" name="AutoShape 15"/>
          <p:cNvCxnSpPr>
            <a:stCxn id="332" idx="3"/>
            <a:endCxn id="336" idx="1"/>
          </p:cNvCxnSpPr>
          <p:nvPr/>
        </p:nvCxnSpPr>
        <p:spPr>
          <a:xfrm>
            <a:off x="4254120" y="3704760"/>
            <a:ext cx="45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Line 16"/>
          <p:cNvSpPr/>
          <p:nvPr/>
        </p:nvSpPr>
        <p:spPr>
          <a:xfrm>
            <a:off x="6095880" y="37101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6400800" y="43196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6095880" y="4929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Text Box 19"/>
          <p:cNvSpPr/>
          <p:nvPr/>
        </p:nvSpPr>
        <p:spPr>
          <a:xfrm>
            <a:off x="4921920" y="4691160"/>
            <a:ext cx="892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ro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42" name="AutoShape 20"/>
          <p:cNvCxnSpPr>
            <a:stCxn id="333" idx="3"/>
            <a:endCxn id="341" idx="1"/>
          </p:cNvCxnSpPr>
          <p:nvPr/>
        </p:nvCxnSpPr>
        <p:spPr>
          <a:xfrm flipV="1">
            <a:off x="4495680" y="4890240"/>
            <a:ext cx="3880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TextBox 21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Content Placeholder 23"/>
          <p:cNvSpPr/>
          <p:nvPr/>
        </p:nvSpPr>
        <p:spPr>
          <a:xfrm>
            <a:off x="684360" y="551808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end k-1 symbol $ at the front of each string, in order to generate a number L of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-grams for a string of length L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Overlap Distanc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1360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umerate all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s in Q = mon </a:t>
            </a:r>
            <a:r>
              <a:rPr b="0" lang="en-US" sz="2400" spc="-1" strike="noStrike">
                <a:solidFill>
                  <a:srgbClr val="00b050"/>
                </a:solidFill>
                <a:latin typeface="Lucida Sans"/>
              </a:rPr>
              <a:t>($m, mo, 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417600" y="4754520"/>
            <a:ext cx="8618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 index to rank all lexicon terms according to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Sans"/>
              </a:rPr>
              <a:t>number of matchin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s </a:t>
            </a:r>
            <a:r>
              <a:rPr b="0" lang="en-US" sz="2400" spc="-1" strike="noStrike">
                <a:solidFill>
                  <a:srgbClr val="00b050"/>
                </a:solidFill>
                <a:latin typeface="Lucida Sans"/>
              </a:rPr>
              <a:t>(moo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633680" y="3154320"/>
            <a:ext cx="560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623960" y="3687840"/>
            <a:ext cx="483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2398680" y="33066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398680" y="3840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736800" y="315432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1641240" y="2535120"/>
            <a:ext cx="551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$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2398680" y="2697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3696480" y="2535120"/>
            <a:ext cx="82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3722400" y="375444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343840" y="3154320"/>
            <a:ext cx="1255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rt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9" name="AutoShape 13"/>
          <p:cNvCxnSpPr>
            <a:stCxn id="353" idx="3"/>
            <a:endCxn id="358" idx="1"/>
          </p:cNvCxnSpPr>
          <p:nvPr/>
        </p:nvCxnSpPr>
        <p:spPr>
          <a:xfrm>
            <a:off x="4851000" y="3387240"/>
            <a:ext cx="367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Text Box 14"/>
          <p:cNvSpPr/>
          <p:nvPr/>
        </p:nvSpPr>
        <p:spPr>
          <a:xfrm>
            <a:off x="5073480" y="2565360"/>
            <a:ext cx="863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1" name="AutoShape 15"/>
          <p:cNvCxnSpPr>
            <a:stCxn id="356" idx="3"/>
            <a:endCxn id="360" idx="1"/>
          </p:cNvCxnSpPr>
          <p:nvPr/>
        </p:nvCxnSpPr>
        <p:spPr>
          <a:xfrm flipV="1">
            <a:off x="4595400" y="2764800"/>
            <a:ext cx="453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Line 16"/>
          <p:cNvSpPr/>
          <p:nvPr/>
        </p:nvSpPr>
        <p:spPr>
          <a:xfrm>
            <a:off x="6021360" y="27734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Line 17"/>
          <p:cNvSpPr/>
          <p:nvPr/>
        </p:nvSpPr>
        <p:spPr>
          <a:xfrm flipV="1">
            <a:off x="8028000" y="3381480"/>
            <a:ext cx="64764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7456320" y="4002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5263200" y="3789360"/>
            <a:ext cx="892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ro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6" name="AutoShape 20"/>
          <p:cNvCxnSpPr>
            <a:stCxn id="357" idx="3"/>
            <a:endCxn id="365" idx="1"/>
          </p:cNvCxnSpPr>
          <p:nvPr/>
        </p:nvCxnSpPr>
        <p:spPr>
          <a:xfrm>
            <a:off x="4836960" y="3987360"/>
            <a:ext cx="388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Text Box 14"/>
          <p:cNvSpPr/>
          <p:nvPr/>
        </p:nvSpPr>
        <p:spPr>
          <a:xfrm>
            <a:off x="7210080" y="3173400"/>
            <a:ext cx="863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8" name="AutoShape 15"/>
          <p:cNvCxnSpPr>
            <a:endCxn id="367" idx="1"/>
          </p:cNvCxnSpPr>
          <p:nvPr/>
        </p:nvCxnSpPr>
        <p:spPr>
          <a:xfrm flipV="1">
            <a:off x="6732720" y="3373200"/>
            <a:ext cx="45288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Text Box 14"/>
          <p:cNvSpPr/>
          <p:nvPr/>
        </p:nvSpPr>
        <p:spPr>
          <a:xfrm>
            <a:off x="6526800" y="3789360"/>
            <a:ext cx="863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70" name="AutoShape 20"/>
          <p:cNvCxnSpPr>
            <a:stCxn id="365" idx="3"/>
            <a:endCxn id="369" idx="1"/>
          </p:cNvCxnSpPr>
          <p:nvPr/>
        </p:nvCxnSpPr>
        <p:spPr>
          <a:xfrm flipV="1">
            <a:off x="6194160" y="3988800"/>
            <a:ext cx="308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verlap Distance </a:t>
            </a:r>
            <a:r>
              <a:rPr b="0" i="1" lang="en-US" sz="3200" spc="-1" strike="noStrike">
                <a:solidFill>
                  <a:srgbClr val="ff0000"/>
                </a:solidFill>
                <a:latin typeface="Lucida Sans"/>
              </a:rPr>
              <a:t>versus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dit Distanc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13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lect terms by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threshold on matchin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the term is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hars long (it consists of L k-gram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the number of allowed errors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(E*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the k-grams of Q might be different from term’s ones because of the E errors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 at least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L – E*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the k-grams in Q must match a dictionary term to be a candidate answ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ED is required, post-filter results dyn pro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Rettangolo arrotondato 1"/>
          <p:cNvSpPr/>
          <p:nvPr/>
        </p:nvSpPr>
        <p:spPr>
          <a:xfrm>
            <a:off x="250920" y="5950080"/>
            <a:ext cx="8610480" cy="6793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ecessary but not sufficient condition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=$mom, Q=$omo, L-E*k=3-1*2=1, T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Q = {mo,om} but EditDist = 2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with trigrams (K=3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uppose the term to compare is $$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novemb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grams ar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$$n, $no, nov, ove, vem, 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emb, mbe, b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query 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</a:rPr>
              <a:t>Q =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$$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grams ar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$$d, $de, dec, ece, cem, 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emb, mbe, b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|Q|=8, K=3, if E=1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L – E*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= 8 – 1*3 = 5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Lucida Sans"/>
              </a:rPr>
              <a:t>NO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|Q|=8, K=3, if E=2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L – E*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= 8 – 2*3 = 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Lucida Sans"/>
              </a:rPr>
              <a:t>OK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6012000" y="2205000"/>
            <a:ext cx="2089080" cy="19447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Rettangolo 1"/>
          <p:cNvSpPr/>
          <p:nvPr/>
        </p:nvSpPr>
        <p:spPr>
          <a:xfrm>
            <a:off x="108000" y="6237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st-filter is needed to check that the distance &gt; 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ast searching for k-gra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sume we wish to match the following bi-grams (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lo, or, r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against a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2-gram index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ilt over a dictionary of term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602720" y="3267000"/>
            <a:ext cx="44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602000" y="3800520"/>
            <a:ext cx="487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602720" y="4334040"/>
            <a:ext cx="489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AutoShape 7"/>
          <p:cNvSpPr/>
          <p:nvPr/>
        </p:nvSpPr>
        <p:spPr>
          <a:xfrm>
            <a:off x="2125800" y="34196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AutoShape 8"/>
          <p:cNvSpPr/>
          <p:nvPr/>
        </p:nvSpPr>
        <p:spPr>
          <a:xfrm>
            <a:off x="2125800" y="3952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2125800" y="4486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3359160" y="3276720"/>
            <a:ext cx="98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lo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4716360" y="3276720"/>
            <a:ext cx="86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6024600" y="3276720"/>
            <a:ext cx="903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lo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4737240" y="3809880"/>
            <a:ext cx="86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6036120" y="3809880"/>
            <a:ext cx="1215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morbi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4812120" y="4400640"/>
            <a:ext cx="114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6178320" y="4400640"/>
            <a:ext cx="81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5" name="AutoShape 17"/>
          <p:cNvCxnSpPr>
            <a:stCxn id="388" idx="3"/>
            <a:endCxn id="389" idx="1"/>
          </p:cNvCxnSpPr>
          <p:nvPr/>
        </p:nvCxnSpPr>
        <p:spPr>
          <a:xfrm>
            <a:off x="4349880" y="3509640"/>
            <a:ext cx="367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Text Box 18"/>
          <p:cNvSpPr/>
          <p:nvPr/>
        </p:nvSpPr>
        <p:spPr>
          <a:xfrm>
            <a:off x="3364200" y="3809880"/>
            <a:ext cx="114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7" name="AutoShape 19"/>
          <p:cNvCxnSpPr>
            <a:stCxn id="396" idx="3"/>
            <a:endCxn id="391" idx="1"/>
          </p:cNvCxnSpPr>
          <p:nvPr/>
        </p:nvCxnSpPr>
        <p:spPr>
          <a:xfrm>
            <a:off x="4530600" y="4043160"/>
            <a:ext cx="20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AutoShape 20"/>
          <p:cNvCxnSpPr>
            <a:stCxn id="391" idx="3"/>
            <a:endCxn id="392" idx="1"/>
          </p:cNvCxnSpPr>
          <p:nvPr/>
        </p:nvCxnSpPr>
        <p:spPr>
          <a:xfrm>
            <a:off x="5597280" y="4043160"/>
            <a:ext cx="4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AutoShape 21"/>
          <p:cNvCxnSpPr>
            <a:stCxn id="393" idx="3"/>
            <a:endCxn id="394" idx="1"/>
          </p:cNvCxnSpPr>
          <p:nvPr/>
        </p:nvCxnSpPr>
        <p:spPr>
          <a:xfrm>
            <a:off x="5978520" y="4633560"/>
            <a:ext cx="192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AutoShape 22"/>
          <p:cNvCxnSpPr>
            <a:stCxn id="389" idx="3"/>
            <a:endCxn id="390" idx="1"/>
          </p:cNvCxnSpPr>
          <p:nvPr/>
        </p:nvCxnSpPr>
        <p:spPr>
          <a:xfrm>
            <a:off x="5576400" y="3509640"/>
            <a:ext cx="4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Text Box 23"/>
          <p:cNvSpPr/>
          <p:nvPr/>
        </p:nvSpPr>
        <p:spPr>
          <a:xfrm>
            <a:off x="3346200" y="4410000"/>
            <a:ext cx="114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r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2" name="AutoShape 24"/>
          <p:cNvCxnSpPr>
            <a:stCxn id="401" idx="3"/>
            <a:endCxn id="393" idx="1"/>
          </p:cNvCxnSpPr>
          <p:nvPr/>
        </p:nvCxnSpPr>
        <p:spPr>
          <a:xfrm flipV="1">
            <a:off x="4497480" y="4633560"/>
            <a:ext cx="2955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Rectangle 25"/>
          <p:cNvSpPr/>
          <p:nvPr/>
        </p:nvSpPr>
        <p:spPr>
          <a:xfrm>
            <a:off x="3200400" y="3200400"/>
            <a:ext cx="12952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3276720" y="4343400"/>
            <a:ext cx="12952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05" name="Group 27"/>
          <p:cNvGrpSpPr/>
          <p:nvPr/>
        </p:nvGrpSpPr>
        <p:grpSpPr>
          <a:xfrm>
            <a:off x="3276720" y="3733920"/>
            <a:ext cx="2743200" cy="1218960"/>
            <a:chOff x="3276720" y="3733920"/>
            <a:chExt cx="2743200" cy="1218960"/>
          </a:xfrm>
        </p:grpSpPr>
        <p:sp>
          <p:nvSpPr>
            <p:cNvPr id="406" name="Rectangle 28"/>
            <p:cNvSpPr/>
            <p:nvPr/>
          </p:nvSpPr>
          <p:spPr>
            <a:xfrm>
              <a:off x="3276720" y="3733920"/>
              <a:ext cx="12952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Rectangle 29"/>
            <p:cNvSpPr/>
            <p:nvPr/>
          </p:nvSpPr>
          <p:spPr>
            <a:xfrm>
              <a:off x="4724280" y="4343400"/>
              <a:ext cx="129564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8" name="Group 30"/>
          <p:cNvGrpSpPr/>
          <p:nvPr/>
        </p:nvGrpSpPr>
        <p:grpSpPr>
          <a:xfrm>
            <a:off x="4648320" y="3200400"/>
            <a:ext cx="1066680" cy="1143000"/>
            <a:chOff x="4648320" y="3200400"/>
            <a:chExt cx="1066680" cy="1143000"/>
          </a:xfrm>
        </p:grpSpPr>
        <p:sp>
          <p:nvSpPr>
            <p:cNvPr id="409" name="Rectangle 31"/>
            <p:cNvSpPr/>
            <p:nvPr/>
          </p:nvSpPr>
          <p:spPr>
            <a:xfrm>
              <a:off x="4648320" y="3200400"/>
              <a:ext cx="10666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Rectangle 32"/>
            <p:cNvSpPr/>
            <p:nvPr/>
          </p:nvSpPr>
          <p:spPr>
            <a:xfrm>
              <a:off x="4648320" y="3733920"/>
              <a:ext cx="10666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1" name="Rectangle 33"/>
          <p:cNvSpPr/>
          <p:nvPr/>
        </p:nvSpPr>
        <p:spPr>
          <a:xfrm>
            <a:off x="5943600" y="3733920"/>
            <a:ext cx="1371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34"/>
          <p:cNvSpPr/>
          <p:nvPr/>
        </p:nvSpPr>
        <p:spPr>
          <a:xfrm>
            <a:off x="6095880" y="4343400"/>
            <a:ext cx="9907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35"/>
          <p:cNvSpPr/>
          <p:nvPr/>
        </p:nvSpPr>
        <p:spPr>
          <a:xfrm>
            <a:off x="5943600" y="3200400"/>
            <a:ext cx="10666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AutoShape 36"/>
          <p:cNvSpPr/>
          <p:nvPr/>
        </p:nvSpPr>
        <p:spPr>
          <a:xfrm>
            <a:off x="811080" y="4999680"/>
            <a:ext cx="7261560" cy="1238040"/>
          </a:xfrm>
          <a:prstGeom prst="upArrowCallout">
            <a:avLst>
              <a:gd name="adj1" fmla="val 258154"/>
              <a:gd name="adj2" fmla="val 258103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tandard postings “merge” will enumerate term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with their cardina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Text Box 37"/>
          <p:cNvSpPr/>
          <p:nvPr/>
        </p:nvSpPr>
        <p:spPr>
          <a:xfrm>
            <a:off x="916200" y="635148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Then choose terms if #occ possibly filter out &lt; L – k*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TextBox 37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Lucida Sans"/>
              </a:rPr>
              <a:t>Context-sensitive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ll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924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xt: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I 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o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Heathrow to Narita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the phrase query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“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or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Heathrow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’d like to respo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id you mean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lew from Heathrow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cause no docs matched the query phras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issues in spell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numerate multiple alternatives and then need to figure out which to present to the user for “Did you mean?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 heuristi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alternative hitting most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ery log analysis + tweak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 especially popular, topical queri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pell-correction is computationally expensiv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 only on queries that matched few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ophisticated quer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ild-card queries: *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mon*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ind all docs containing words beginning with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a Prefix-search data struc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*mon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words ending 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intain a prefix-search data structure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evers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rm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517680" y="5370480"/>
            <a:ext cx="794196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ow can we solve the wild-card query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pro*cent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about * in the middle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o*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ould look up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o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*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intersect the two lists 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(expensiv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e*at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il*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may result in many Boolea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solution: transform wild-card queries so that the *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occur at the e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gives rise to the </a:t>
            </a:r>
            <a:r>
              <a:rPr b="1" lang="en-US" sz="2600" spc="-1" strike="noStrike">
                <a:solidFill>
                  <a:srgbClr val="00a000"/>
                </a:solidFill>
                <a:latin typeface="Lucida Sans"/>
              </a:rPr>
              <a:t>Permu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dex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naïve diction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508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 array of struct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r[20]      int           Postings 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20 bytes        4/8 bytes        4/8 bytes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How do we store a dictionary in memory efficiently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How do we quickly look up elements at query tim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380960" y="2502000"/>
            <a:ext cx="4846680" cy="2151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muterm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ter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hello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ndex und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hello$, ello$h, llo$he, lo$hel, o$hell, $hell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here $ is a special symbo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okup on   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*X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$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*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lookup on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Y$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Y*Z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??? Exercis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muterm 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otate query wild-card to the righ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*Q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$P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use prefix-search data struct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ermuterm problem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≈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4x lexicon 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AutoShape 1028"/>
          <p:cNvSpPr/>
          <p:nvPr/>
        </p:nvSpPr>
        <p:spPr>
          <a:xfrm>
            <a:off x="3282120" y="3813120"/>
            <a:ext cx="4183200" cy="598320"/>
          </a:xfrm>
          <a:prstGeom prst="upArrowCallout">
            <a:avLst>
              <a:gd name="adj1" fmla="val 174805"/>
              <a:gd name="adj2" fmla="val 174789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mpirical observation for English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ass of heuristics to expand a query into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phone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quival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specific – mainly for nam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hebyshev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chebychef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for the U.S. census in 1918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 – typical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urn every token to be indexed into a reduced form consisting of 4 cha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o the same with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ild and search an index on the reduced fo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 – typical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tain the first letter of the word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Herma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H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 all occurrences of the following letters to '0' (zero)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  'A', E', 'I', 'O', 'U', 'H', 'W', 'Y'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Herma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0rm0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 letters to digits as follows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, F, P, 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, G, J, K, Q, S, X,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,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,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H0rm0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06505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 cont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Lucida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move all pairs of consecutive equal digit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H06505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06505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1800"/>
              </a:spcBef>
              <a:buClr>
                <a:srgbClr val="a50021"/>
              </a:buClr>
              <a:buSzPct val="60000"/>
              <a:buFont typeface="Lucida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move all zeros from the resulting str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H06505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655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1800"/>
              </a:spcBef>
              <a:buClr>
                <a:srgbClr val="a50021"/>
              </a:buClr>
              <a:buSzPct val="60000"/>
              <a:buFont typeface="Lucida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d the resulting string with trailing zeros and return the first four positions, which will be of the form &lt;uppercase letter&gt; &lt;digit&gt; &lt;digit&gt; &lt;digit&gt;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Herman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lso becomes H655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undex is the classic algorithm, provided by most databases (Oracle, Microsoft, …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t very useful – for information retriev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kay for “high recall” tasks (e.g., Interpol), though biased to names of certain nationalit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ther algorithms for phonetic matching perform much better in the context of I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hav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itional inverted index (with skip pointer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ld-card inde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ell-corr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could solve queries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(SPELL(moriset) AND toron*to) OR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OUNDEX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(chaikofski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ain choi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ash t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e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i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me IR systems use hashes, some trees/t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Hashing with chai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27040" y="1852560"/>
            <a:ext cx="7813800" cy="3975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460840" y="2362320"/>
            <a:ext cx="307188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ttangolo 4"/>
          <p:cNvSpPr/>
          <p:nvPr/>
        </p:nvSpPr>
        <p:spPr>
          <a:xfrm>
            <a:off x="411120" y="5938920"/>
            <a:ext cx="81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The current vers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rmurHas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(vers 3) yields a 32-bit or 128-bit hash value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Another </a:t>
            </a:r>
            <a:r>
              <a:rPr b="0" lang="it-IT" sz="36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i="1" lang="it-IT" sz="3600" spc="-1" strike="noStrike">
                <a:solidFill>
                  <a:srgbClr val="c00000"/>
                </a:solidFill>
                <a:latin typeface="Lucida Sans"/>
              </a:rPr>
              <a:t>provably good”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1680" y="480024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Each a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is selected at random in [0,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1428840" y="2357280"/>
            <a:ext cx="6000840" cy="642960"/>
            <a:chOff x="1428840" y="2357280"/>
            <a:chExt cx="6000840" cy="642960"/>
          </a:xfrm>
        </p:grpSpPr>
        <p:sp>
          <p:nvSpPr>
            <p:cNvPr id="112" name="Rectangle 3"/>
            <p:cNvSpPr/>
            <p:nvPr/>
          </p:nvSpPr>
          <p:spPr>
            <a:xfrm>
              <a:off x="1428840" y="235728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4288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22143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0002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66441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Straight Connector 14"/>
            <p:cNvSpPr/>
            <p:nvPr/>
          </p:nvSpPr>
          <p:spPr>
            <a:xfrm>
              <a:off x="4214880" y="264312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TextBox 15"/>
            <p:cNvSpPr/>
            <p:nvPr/>
          </p:nvSpPr>
          <p:spPr>
            <a:xfrm>
              <a:off x="161820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Box 16"/>
            <p:cNvSpPr/>
            <p:nvPr/>
          </p:nvSpPr>
          <p:spPr>
            <a:xfrm>
              <a:off x="246168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TextBox 17"/>
            <p:cNvSpPr/>
            <p:nvPr/>
          </p:nvSpPr>
          <p:spPr>
            <a:xfrm>
              <a:off x="324756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TextBox 19"/>
            <p:cNvSpPr/>
            <p:nvPr/>
          </p:nvSpPr>
          <p:spPr>
            <a:xfrm>
              <a:off x="6844680" y="2428560"/>
              <a:ext cx="37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2" name="Group 24"/>
          <p:cNvGrpSpPr/>
          <p:nvPr/>
        </p:nvGrpSpPr>
        <p:grpSpPr>
          <a:xfrm>
            <a:off x="1428840" y="1643040"/>
            <a:ext cx="1589760" cy="642960"/>
            <a:chOff x="1428840" y="1643040"/>
            <a:chExt cx="1589760" cy="642960"/>
          </a:xfrm>
        </p:grpSpPr>
        <p:sp>
          <p:nvSpPr>
            <p:cNvPr id="123" name="Left Brace 22"/>
            <p:cNvSpPr/>
            <p:nvPr/>
          </p:nvSpPr>
          <p:spPr>
            <a:xfrm rot="5400000">
              <a:off x="1643040" y="1714680"/>
              <a:ext cx="357120" cy="7855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9000 h 785520"/>
                <a:gd name="textAreaBottom" fmla="*/ 77652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TextBox 23"/>
            <p:cNvSpPr/>
            <p:nvPr/>
          </p:nvSpPr>
          <p:spPr>
            <a:xfrm>
              <a:off x="1860840" y="1643040"/>
              <a:ext cx="1157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≈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log</a:t>
              </a:r>
              <a:r>
                <a:rPr b="0" lang="it-IT" sz="2000" spc="-1" strike="noStrike" baseline="-25000">
                  <a:solidFill>
                    <a:srgbClr val="c00000"/>
                  </a:solidFill>
                  <a:latin typeface="Lucida Sans"/>
                </a:rPr>
                <a:t>2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5" name="TextBox 25"/>
          <p:cNvSpPr/>
          <p:nvPr/>
        </p:nvSpPr>
        <p:spPr>
          <a:xfrm>
            <a:off x="6301800" y="3214800"/>
            <a:ext cx="175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r ≈ L / log</a:t>
            </a:r>
            <a:r>
              <a:rPr b="0" lang="it-IT" sz="2000" spc="-1" strike="noStrike" baseline="-25000">
                <a:solidFill>
                  <a:srgbClr val="c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1428840" y="3929040"/>
            <a:ext cx="6000840" cy="642960"/>
            <a:chOff x="1428840" y="3929040"/>
            <a:chExt cx="6000840" cy="642960"/>
          </a:xfrm>
        </p:grpSpPr>
        <p:sp>
          <p:nvSpPr>
            <p:cNvPr id="127" name="Rectangle 27"/>
            <p:cNvSpPr/>
            <p:nvPr/>
          </p:nvSpPr>
          <p:spPr>
            <a:xfrm>
              <a:off x="1428840" y="392904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14288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9"/>
            <p:cNvSpPr/>
            <p:nvPr/>
          </p:nvSpPr>
          <p:spPr>
            <a:xfrm>
              <a:off x="22143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30002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31"/>
            <p:cNvSpPr/>
            <p:nvPr/>
          </p:nvSpPr>
          <p:spPr>
            <a:xfrm>
              <a:off x="66441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Straight Connector 32"/>
            <p:cNvSpPr/>
            <p:nvPr/>
          </p:nvSpPr>
          <p:spPr>
            <a:xfrm>
              <a:off x="4214880" y="421488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TextBox 33"/>
            <p:cNvSpPr/>
            <p:nvPr/>
          </p:nvSpPr>
          <p:spPr>
            <a:xfrm>
              <a:off x="161424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TextBox 34"/>
            <p:cNvSpPr/>
            <p:nvPr/>
          </p:nvSpPr>
          <p:spPr>
            <a:xfrm>
              <a:off x="245772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324360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Box 36"/>
            <p:cNvSpPr/>
            <p:nvPr/>
          </p:nvSpPr>
          <p:spPr>
            <a:xfrm>
              <a:off x="6841080" y="400032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7" name="TextBox 40"/>
          <p:cNvSpPr/>
          <p:nvPr/>
        </p:nvSpPr>
        <p:spPr>
          <a:xfrm>
            <a:off x="408960" y="235728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TextBox 41"/>
          <p:cNvSpPr/>
          <p:nvPr/>
        </p:nvSpPr>
        <p:spPr>
          <a:xfrm>
            <a:off x="675360" y="39290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843280" y="5462640"/>
            <a:ext cx="39434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7"/>
          <p:cNvGrpSpPr/>
          <p:nvPr/>
        </p:nvGrpSpPr>
        <p:grpSpPr>
          <a:xfrm>
            <a:off x="6714720" y="5786280"/>
            <a:ext cx="1899720" cy="642960"/>
            <a:chOff x="6714720" y="5786280"/>
            <a:chExt cx="1899720" cy="642960"/>
          </a:xfrm>
        </p:grpSpPr>
        <p:cxnSp>
          <p:nvCxnSpPr>
            <p:cNvPr id="141" name="Straight Arrow Connector 38"/>
            <p:cNvCxnSpPr/>
            <p:nvPr/>
          </p:nvCxnSpPr>
          <p:spPr>
            <a:xfrm flipH="1" flipV="1">
              <a:off x="6714720" y="6071760"/>
              <a:ext cx="786240" cy="35784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42" name="TextBox 39"/>
            <p:cNvSpPr/>
            <p:nvPr/>
          </p:nvSpPr>
          <p:spPr>
            <a:xfrm>
              <a:off x="7299720" y="578628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" name="Rounded Rectangle 42"/>
          <p:cNvSpPr/>
          <p:nvPr/>
        </p:nvSpPr>
        <p:spPr>
          <a:xfrm>
            <a:off x="6215040" y="150012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 = bit len of 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 = tabl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ounded Rectangle 43"/>
          <p:cNvSpPr/>
          <p:nvPr/>
        </p:nvSpPr>
        <p:spPr>
          <a:xfrm>
            <a:off x="4786200" y="6419880"/>
            <a:ext cx="4429080" cy="438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t necessarily: (...mod p) mod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fix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refix-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refix 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Tahoma"/>
              </a:rPr>
              <a:t>Ex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attern P is </a:t>
            </a: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p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Dict = {abaco, box, </a:t>
            </a:r>
            <a:r>
              <a:rPr b="0" lang="it-IT" sz="2600" spc="-1" strike="noStrike" u="sng">
                <a:solidFill>
                  <a:srgbClr val="ff0000"/>
                </a:solidFill>
                <a:uFillTx/>
                <a:latin typeface="Tahoma"/>
              </a:rPr>
              <a:t>pa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olo, </a:t>
            </a:r>
            <a:r>
              <a:rPr b="0" lang="it-IT" sz="2600" spc="-1" strike="noStrike" u="sng">
                <a:solidFill>
                  <a:srgbClr val="ff0000"/>
                </a:solidFill>
                <a:uFillTx/>
                <a:latin typeface="Tahoma"/>
              </a:rPr>
              <a:t>pa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trizio, pippo, zoo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8-11-03T16:47:21Z</dcterms:modified>
  <cp:revision>1217</cp:revision>
  <dc:subject/>
  <dc:title>Web Algorithmics</dc:title>
</cp:coreProperties>
</file>